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043-4E0C-4373-AFB4-2A407F8F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F8B-A9A7-41C6-B9C6-BF4D693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B3C-A19A-460E-A9CB-044B4861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2A8-6151-4226-9F79-C21865B0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F41FC-2362-43BA-8FBC-6441D065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AEE68-D363-4FE4-9D41-5BC6883D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75D15-6B53-4D42-8FD0-68B80173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0863F-78A8-4369-982C-2779DE2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44900-9706-4030-97F2-FDB392CB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0F04E-4D0E-43D3-BA45-0F44ECE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FD09E-7134-410C-B1F0-4F4450B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EC1-4FA4-46B0-BD21-AAC7BB2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F5D5B-25DC-42E3-A564-89B2F4D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19205-8551-44F6-8F51-9AB2AA6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B68FA-6911-490C-B740-054CBDF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80957-D5C5-4F40-997A-69BADB2B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25CD-D4C5-49F3-A8D5-DF9875C0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3E1-C335-4AFE-957D-C6A66854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1B0-9F91-4DFF-9755-301066E9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8EE-8596-4E84-8706-E098D291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D10-F73C-400A-8DB8-AE7F645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0FF-DF7F-428D-89BA-0B6E418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A8D-B07C-4E54-B9CA-0689ED7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0DF-CD35-4FDC-825D-2A2CD290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D14-72BD-44B3-B289-681BDB95B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6D0-5FB4-4389-A899-58867632E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etching Linear Equ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5228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68580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1219320"/>
            <a:ext cx="609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15228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68580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1219320"/>
            <a:ext cx="60984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1905120"/>
            <a:ext cx="12193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=3X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15228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68580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1219320"/>
            <a:ext cx="609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1880" y="15228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68580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1219320"/>
            <a:ext cx="60984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1905120"/>
            <a:ext cx="12193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=3X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9880" y="1371240"/>
            <a:ext cx="190512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29:51Z</dcterms:created>
  <dc:creator>Ben M</dc:creator>
  <dc:description/>
  <dc:language>en-US</dc:language>
  <cp:lastModifiedBy>Ben M</cp:lastModifiedBy>
  <dcterms:modified xsi:type="dcterms:W3CDTF">2008-02-20T08:39:37Z</dcterms:modified>
  <cp:revision>2</cp:revision>
  <dc:subject/>
  <dc:title>Sketching Linear Equations</dc:title>
</cp:coreProperties>
</file>